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wmf" ContentType="image/x-wmf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76320"/>
            <a:ext cx="7772400" cy="3808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191120" y="7632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uroTAAC Utrecht, NL 24.02.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553080"/>
            <a:ext cx="7772400" cy="3034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583320"/>
            <a:ext cx="265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amer Çatalkaya Abt. E.I.S. TU B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866560" y="6553080"/>
            <a:ext cx="260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Home-Made PageHistory Li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553080"/>
            <a:ext cx="7772400" cy="3034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76320"/>
            <a:ext cx="7772400" cy="3808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91120" y="7632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uroTAAC Utrecht, NL 24.02.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6583320"/>
            <a:ext cx="265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amer Çatalkaya Abt. E.I.S. TU B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The Home-Made PageHistory List</a:t>
            </a:r>
            <a:endParaRPr b="0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mer Çatalkay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 Braunschwe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partment of Integrated Circuit Desig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.catalkaya@tu-bs.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The Authorware history list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does the Authorware history list behave?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list appears in its own window, separate from the application windo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ery time a new page is entered, the list gets an upd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new entry gets on top as the first ele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y double-clicking a list entry, the application jumps to the according p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y minimizing the application window, the history list disappears, too, and comes back if the app. is called out of the taskb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The Authorware history list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fact this is nothing else than a interprocess communication between two application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62200" y="3957480"/>
          <a:ext cx="5790960" cy="14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2200" y="3957480"/>
                    <a:ext cx="5790960" cy="14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The Authorware history list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can be done by two Authorware applications, to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762200" y="3957480"/>
          <a:ext cx="5790960" cy="15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2200" y="3957480"/>
                    <a:ext cx="5790960" cy="15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Arial"/>
              </a:rPr>
              <a:t>Concept of the home-made PH list</a:t>
            </a:r>
            <a:endParaRPr b="0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idea is to create two Authorware applic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home-made PageHistory list, which can be simply used within other projects, too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test environment showing the functions to be included into your own application, to run the home-made PageHistory lis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762200" y="3957480"/>
          <a:ext cx="5790960" cy="14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2200" y="3957480"/>
                    <a:ext cx="5790960" cy="14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Arial"/>
              </a:rPr>
              <a:t>Concept of the home-made PH list</a:t>
            </a:r>
            <a:endParaRPr b="0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ery time the user changes the page, the application must submit the page name to the history li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762200" y="3957480"/>
          <a:ext cx="5790960" cy="14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2200" y="3957480"/>
                    <a:ext cx="5790960" cy="14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Arial"/>
              </a:rPr>
              <a:t>Concept of the home-made PH list</a:t>
            </a:r>
            <a:endParaRPr b="0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ery time an entry is selected out of the PageHistory list, the application must change to the according pag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762200" y="3957480"/>
          <a:ext cx="5790960" cy="14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2200" y="3957480"/>
                    <a:ext cx="5790960" cy="14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Arial"/>
              </a:rPr>
              <a:t>Concept of the home-made PH list</a:t>
            </a:r>
            <a:endParaRPr b="0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PageHistory window can be moved and closed independently from the application window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y minimizing the application window, the PageHistory window hides, too, and gets back to the screen by maximizing the application window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762200" y="3957480"/>
          <a:ext cx="7391160" cy="24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2200" y="3957480"/>
                    <a:ext cx="7391160" cy="24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Arial"/>
              </a:rPr>
              <a:t>Concept of the home-made PH list</a:t>
            </a:r>
            <a:endParaRPr b="0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the listbox implementation we use the HListBox.U3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asy to use Listbox function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th a complete function set to manipulate a Listbox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s part of the Authorware Attain packag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 do some system calls we use functions out of the BudAPI.U32 and the WinAPI.U3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oth are very powerful librari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Arial"/>
              </a:rPr>
              <a:t>Concept of the home-made PH list</a:t>
            </a:r>
            <a:endParaRPr b="0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585800" y="2806560"/>
          <a:ext cx="6400800" cy="12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5800" y="2806560"/>
                    <a:ext cx="6400800" cy="12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Arial"/>
              </a:rPr>
              <a:t>Concept of the home-made PH list</a:t>
            </a:r>
            <a:endParaRPr b="0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826920" y="2122560"/>
          <a:ext cx="7162920" cy="19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122560"/>
                    <a:ext cx="7162920" cy="19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Contents</a:t>
            </a:r>
            <a:endParaRPr b="0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Authorware history li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oncept of the home-made PH li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Arial"/>
              </a:rPr>
              <a:t>Concept of the home-made PH list</a:t>
            </a:r>
            <a:endParaRPr b="0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826920" y="2122560"/>
          <a:ext cx="7086600" cy="36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122560"/>
                    <a:ext cx="708660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Arial"/>
              </a:rPr>
              <a:t>Concept of the home-made PH list</a:t>
            </a:r>
            <a:endParaRPr b="0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79280" y="2158920"/>
          <a:ext cx="8763120" cy="40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158920"/>
                    <a:ext cx="8763120" cy="40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Implementation highlights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ow me how it works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a short demo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Implementation highlights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“Write out” of the li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952880" y="2819520"/>
            <a:ext cx="3942000" cy="1287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898560" y="2935440"/>
            <a:ext cx="397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2666880"/>
            <a:ext cx="4114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name of each page is added to a variable by calling the p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 one of the pages should not appear in the list, simply don’t add its name to the li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 a different name should appear, simply add another name than the page name to the list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800600" y="4267080"/>
            <a:ext cx="4195800" cy="2087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451880" y="6248520"/>
            <a:ext cx="18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*need some small modif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Implementation highlights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464832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 detect a chosen entry in the PageHistory list, the application is watching the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otoPage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SystemSecond &gt;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watchTim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than “have a look”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lculate the new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watchTim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otoPageFil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exists, then “jump” to the according pag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watchDog of the AW-Ap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410080" y="2590920"/>
            <a:ext cx="319104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Implementation highlights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981080"/>
            <a:ext cx="6324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watchDog of the PH-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477120" y="1600200"/>
            <a:ext cx="2384280" cy="4876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85800" y="2743200"/>
            <a:ext cx="5562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le waiting for some interaction, the PH-list tracks the status of the AW-App windo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ery time the timer trigg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status of the PH-list is set according to the status of the AW-App (minimize or hid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 addition the presence of the file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oadHistor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is checked, which indicates an update of the PH-li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We have seen how to implement the home-made PH-li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after some small modification the PH-list can be used as 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56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bookmark lis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556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content lis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556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glossary list, etc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55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This example shows you: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to implement two different types of tim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to pass values by writing them out and reading them in, and via the clipboa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to call system functions with which the state of a target window can be track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Thank you for your attention.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The PageHistory list demo and the sources are available at: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EuroTAAC Si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cs.tu-bs.de/eis/catalkay/aw4.htm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Authorware history list helps to track the activation of icons attached to a framework ic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3941640" cy="1287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800600" y="2819520"/>
            <a:ext cx="3492360" cy="33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 of the tracking work is controlled by Authorw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user has the option of the                                     following setting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ndow title of history li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mount of list entries to 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ther the list should be closed                                            after selecting a p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yond these options it is not possible to control the li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75080" y="423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638680" y="2819520"/>
            <a:ext cx="20224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the author might prefer to control the following in addition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nt of list entr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ings entered into the li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ther to add an entry, independent of the order in which the icons are call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 scan or search the list entr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ple: Unwanted proble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 framework icons are used within one applic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ramework icon holds some pa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ramework icon holds some special procedures, which are called out of the pa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29200" y="1752480"/>
            <a:ext cx="359100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ple szenario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mp from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Pag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lors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further on to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pdat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back to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</a:rPr>
              <a:t>rd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P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029200" y="1752480"/>
            <a:ext cx="359100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ple szenario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mp from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Pag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lors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further on to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pdat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back to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</a:rPr>
              <a:t>rd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P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gives you an entry in the history list, which can’t be avoid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29200" y="1752480"/>
            <a:ext cx="3591000" cy="2195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029200" y="4114800"/>
            <a:ext cx="12286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The Authorware history list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develop the home-made PageHistory list, first we have to analyze the behavior of the AW history li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 i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does the Authorware history list behave?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4T12:44:22Z</dcterms:created>
  <dc:creator>Abt. E.I.S.</dc:creator>
  <dc:description/>
  <dc:language>en-US</dc:language>
  <cp:lastModifiedBy>Abt. E.I.S.</cp:lastModifiedBy>
  <dcterms:modified xsi:type="dcterms:W3CDTF">2000-02-23T22:17:46Z</dcterms:modified>
  <cp:revision>36</cp:revision>
  <dc:subject/>
  <dc:title>The home made PageHistory list</dc:title>
</cp:coreProperties>
</file>